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DFA-E358-4F34-B1C3-99B9A548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201-19CF-4FC2-8742-21F20AFE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DFA-EB0C-40C1-9742-2C6EF32AB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90E-EBA5-4BBE-B39A-C1B5F3BC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CD2-42BD-4BED-B1B6-6379453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960-3DF5-4F87-A94F-3B05E32E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BA8-3812-4604-947C-E77EFF8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082-C501-4E69-AEF5-459DAE7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84D-C85C-47C7-BF2B-1DA160E6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756-3DD5-4521-8ED4-C55ACA9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5CF-EA48-4D12-BF2B-9FD399D7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0B6-6D7A-400B-ABB0-D53312E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EA9D-294C-4012-8FEA-F636F8F64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276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e82c00"/>
                </a:solidFill>
                <a:latin typeface="Times New Roman"/>
              </a:rPr>
              <a:t>Educazione adulti (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1430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cuola popol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06668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L 1599/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 326/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066680"/>
            <a:ext cx="373392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lfabetizzazione contro l’analfabet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egnati ai Circoli didatti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905120"/>
            <a:ext cx="19051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150 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82880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M 131/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752480"/>
            <a:ext cx="373392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rsi di scuola me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egnati alle scuole me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819520"/>
            <a:ext cx="19051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incipi innov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819520"/>
            <a:ext cx="190476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M 307 e 400 del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362320"/>
            <a:ext cx="3809880" cy="1371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 scuola-istruzione profess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rediti forma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ove istituzioni EDA in aree di disa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iù possibilità carcerari e portatori di handi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pertura agli adulti e non solo giov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orsi non solo finalizzati al titolo di st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862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V Conferen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nternazionale Une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648320"/>
            <a:ext cx="19051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stituzione Centr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erritoriali Permanen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(C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486400"/>
            <a:ext cx="19051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d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d1"/>
            </a:solidFill>
            <a:miter/>
          </a:ln>
          <a:effectLst>
            <a:outerShdw dist="153753" dir="2700000" blurRad="0" rotWithShape="0">
              <a:srgbClr val="ecec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ferenza Unific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to-Regioni-E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88620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uglio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886200"/>
            <a:ext cx="373392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ee di indirizzo per gli Stati memb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ducazione adulti è un dirit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’ la chiave per il XXI sec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648320"/>
            <a:ext cx="190476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M 455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648320"/>
            <a:ext cx="3733920" cy="533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Unione in una Istituzione scolastica dell’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ogni ambito territoriale di riferi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410080"/>
            <a:ext cx="1904760" cy="53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e6ff"/>
              </a:gs>
            </a:gsLst>
            <a:lin ang="5400000"/>
          </a:gradFill>
          <a:ln w="9360">
            <a:solidFill>
              <a:srgbClr val="d9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vvedimento 2/3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5334120"/>
            <a:ext cx="3733920" cy="761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df1fa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df1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iorganizzazione, decentr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 potenziam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ell’educazione degli adul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45" idx="3"/>
            <a:endCxn id="46" idx="2"/>
          </p:cNvCxnSpPr>
          <p:nvPr/>
        </p:nvCxnSpPr>
        <p:spPr>
          <a:xfrm flipV="1">
            <a:off x="2286000" y="1333440"/>
            <a:ext cx="533880" cy="76680"/>
          </a:xfrm>
          <a:prstGeom prst="curvedConnector3">
            <a:avLst>
              <a:gd name="adj1" fmla="val 402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2325600" y="1940040"/>
            <a:ext cx="463680" cy="230040"/>
          </a:xfrm>
          <a:custGeom>
            <a:avLst/>
            <a:gdLst/>
            <a:ahLst/>
            <a:rect l="l" t="t" r="r" b="b"/>
            <a:pathLst>
              <a:path w="292" h="145">
                <a:moveTo>
                  <a:pt x="0" y="145"/>
                </a:moveTo>
                <a:cubicBezTo>
                  <a:pt x="74" y="94"/>
                  <a:pt x="204" y="0"/>
                  <a:pt x="292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11560" y="3073320"/>
            <a:ext cx="477720" cy="152640"/>
          </a:xfrm>
          <a:custGeom>
            <a:avLst/>
            <a:gdLst/>
            <a:ahLst/>
            <a:rect l="l" t="t" r="r" b="b"/>
            <a:pathLst>
              <a:path w="301" h="96">
                <a:moveTo>
                  <a:pt x="0" y="73"/>
                </a:moveTo>
                <a:cubicBezTo>
                  <a:pt x="73" y="96"/>
                  <a:pt x="155" y="75"/>
                  <a:pt x="228" y="57"/>
                </a:cubicBezTo>
                <a:cubicBezTo>
                  <a:pt x="255" y="19"/>
                  <a:pt x="262" y="20"/>
                  <a:pt x="30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560" y="4064040"/>
            <a:ext cx="477720" cy="68400"/>
          </a:xfrm>
          <a:custGeom>
            <a:avLst/>
            <a:gdLst/>
            <a:ahLst/>
            <a:rect l="l" t="t" r="r" b="b"/>
            <a:pathLst>
              <a:path w="301" h="43">
                <a:moveTo>
                  <a:pt x="0" y="43"/>
                </a:moveTo>
                <a:cubicBezTo>
                  <a:pt x="45" y="29"/>
                  <a:pt x="93" y="27"/>
                  <a:pt x="139" y="19"/>
                </a:cubicBezTo>
                <a:cubicBezTo>
                  <a:pt x="195" y="0"/>
                  <a:pt x="245" y="43"/>
                  <a:pt x="301" y="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560" y="4843440"/>
            <a:ext cx="504720" cy="257040"/>
          </a:xfrm>
          <a:custGeom>
            <a:avLst/>
            <a:gdLst/>
            <a:ahLst/>
            <a:rect l="l" t="t" r="r" b="b"/>
            <a:pathLst>
              <a:path w="318" h="162">
                <a:moveTo>
                  <a:pt x="0" y="162"/>
                </a:moveTo>
                <a:cubicBezTo>
                  <a:pt x="15" y="79"/>
                  <a:pt x="23" y="77"/>
                  <a:pt x="106" y="65"/>
                </a:cubicBezTo>
                <a:cubicBezTo>
                  <a:pt x="114" y="62"/>
                  <a:pt x="122" y="58"/>
                  <a:pt x="131" y="57"/>
                </a:cubicBezTo>
                <a:cubicBezTo>
                  <a:pt x="172" y="52"/>
                  <a:pt x="213" y="57"/>
                  <a:pt x="253" y="48"/>
                </a:cubicBezTo>
                <a:cubicBezTo>
                  <a:pt x="254" y="48"/>
                  <a:pt x="305" y="6"/>
                  <a:pt x="31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560" y="5622840"/>
            <a:ext cx="527040" cy="239760"/>
          </a:xfrm>
          <a:custGeom>
            <a:avLst/>
            <a:gdLst/>
            <a:ahLst/>
            <a:rect l="l" t="t" r="r" b="b"/>
            <a:pathLst>
              <a:path w="332" h="151">
                <a:moveTo>
                  <a:pt x="0" y="151"/>
                </a:moveTo>
                <a:cubicBezTo>
                  <a:pt x="25" y="13"/>
                  <a:pt x="86" y="60"/>
                  <a:pt x="245" y="54"/>
                </a:cubicBezTo>
                <a:cubicBezTo>
                  <a:pt x="253" y="51"/>
                  <a:pt x="262" y="50"/>
                  <a:pt x="269" y="46"/>
                </a:cubicBezTo>
                <a:cubicBezTo>
                  <a:pt x="286" y="36"/>
                  <a:pt x="332" y="0"/>
                  <a:pt x="318" y="13"/>
                </a:cubicBezTo>
                <a:cubicBezTo>
                  <a:pt x="299" y="31"/>
                  <a:pt x="309" y="29"/>
                  <a:pt x="293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5680" y="1287360"/>
            <a:ext cx="24912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7"/>
                </a:moveTo>
                <a:cubicBezTo>
                  <a:pt x="52" y="18"/>
                  <a:pt x="113" y="0"/>
                  <a:pt x="147" y="51"/>
                </a:cubicBezTo>
                <a:cubicBezTo>
                  <a:pt x="157" y="81"/>
                  <a:pt x="155" y="67"/>
                  <a:pt x="155" y="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14920" y="1969920"/>
            <a:ext cx="271440" cy="173160"/>
          </a:xfrm>
          <a:custGeom>
            <a:avLst/>
            <a:gdLst/>
            <a:ahLst/>
            <a:rect l="l" t="t" r="r" b="b"/>
            <a:pathLst>
              <a:path w="171" h="109">
                <a:moveTo>
                  <a:pt x="0" y="109"/>
                </a:moveTo>
                <a:cubicBezTo>
                  <a:pt x="40" y="82"/>
                  <a:pt x="71" y="45"/>
                  <a:pt x="106" y="12"/>
                </a:cubicBezTo>
                <a:cubicBezTo>
                  <a:pt x="119" y="0"/>
                  <a:pt x="160" y="4"/>
                  <a:pt x="171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7520" y="3008160"/>
            <a:ext cx="284040" cy="192240"/>
          </a:xfrm>
          <a:custGeom>
            <a:avLst/>
            <a:gdLst/>
            <a:ahLst/>
            <a:rect l="l" t="t" r="r" b="b"/>
            <a:pathLst>
              <a:path w="179" h="121">
                <a:moveTo>
                  <a:pt x="0" y="0"/>
                </a:moveTo>
                <a:cubicBezTo>
                  <a:pt x="33" y="17"/>
                  <a:pt x="52" y="26"/>
                  <a:pt x="73" y="57"/>
                </a:cubicBezTo>
                <a:cubicBezTo>
                  <a:pt x="93" y="121"/>
                  <a:pt x="127" y="114"/>
                  <a:pt x="179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7520" y="4106880"/>
            <a:ext cx="284040" cy="155520"/>
          </a:xfrm>
          <a:custGeom>
            <a:avLst/>
            <a:gdLst/>
            <a:ahLst/>
            <a:rect l="l" t="t" r="r" b="b"/>
            <a:pathLst>
              <a:path w="179" h="98">
                <a:moveTo>
                  <a:pt x="0" y="0"/>
                </a:moveTo>
                <a:cubicBezTo>
                  <a:pt x="24" y="16"/>
                  <a:pt x="27" y="14"/>
                  <a:pt x="41" y="41"/>
                </a:cubicBezTo>
                <a:cubicBezTo>
                  <a:pt x="45" y="49"/>
                  <a:pt x="44" y="58"/>
                  <a:pt x="49" y="65"/>
                </a:cubicBezTo>
                <a:cubicBezTo>
                  <a:pt x="60" y="78"/>
                  <a:pt x="77" y="85"/>
                  <a:pt x="89" y="98"/>
                </a:cubicBezTo>
                <a:cubicBezTo>
                  <a:pt x="146" y="85"/>
                  <a:pt x="116" y="89"/>
                  <a:pt x="179" y="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3080" y="5681520"/>
            <a:ext cx="245880" cy="152640"/>
          </a:xfrm>
          <a:custGeom>
            <a:avLst/>
            <a:gdLst/>
            <a:ahLst/>
            <a:rect l="l" t="t" r="r" b="b"/>
            <a:pathLst>
              <a:path w="155" h="96">
                <a:moveTo>
                  <a:pt x="0" y="0"/>
                </a:moveTo>
                <a:cubicBezTo>
                  <a:pt x="5" y="16"/>
                  <a:pt x="16" y="73"/>
                  <a:pt x="25" y="82"/>
                </a:cubicBezTo>
                <a:cubicBezTo>
                  <a:pt x="31" y="88"/>
                  <a:pt x="41" y="87"/>
                  <a:pt x="49" y="90"/>
                </a:cubicBezTo>
                <a:cubicBezTo>
                  <a:pt x="76" y="87"/>
                  <a:pt x="107" y="96"/>
                  <a:pt x="130" y="82"/>
                </a:cubicBezTo>
                <a:cubicBezTo>
                  <a:pt x="145" y="73"/>
                  <a:pt x="141" y="49"/>
                  <a:pt x="147" y="33"/>
                </a:cubicBezTo>
                <a:cubicBezTo>
                  <a:pt x="150" y="25"/>
                  <a:pt x="155" y="9"/>
                  <a:pt x="155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02320" y="4786200"/>
            <a:ext cx="296640" cy="223920"/>
          </a:xfrm>
          <a:custGeom>
            <a:avLst/>
            <a:gdLst/>
            <a:ahLst/>
            <a:rect l="l" t="t" r="r" b="b"/>
            <a:pathLst>
              <a:path w="187" h="141">
                <a:moveTo>
                  <a:pt x="0" y="141"/>
                </a:moveTo>
                <a:cubicBezTo>
                  <a:pt x="52" y="135"/>
                  <a:pt x="73" y="135"/>
                  <a:pt x="114" y="109"/>
                </a:cubicBezTo>
                <a:cubicBezTo>
                  <a:pt x="128" y="67"/>
                  <a:pt x="128" y="43"/>
                  <a:pt x="171" y="27"/>
                </a:cubicBezTo>
                <a:cubicBezTo>
                  <a:pt x="180" y="0"/>
                  <a:pt x="171" y="3"/>
                  <a:pt x="187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entri Territoriali Permanenti (CTP)</a:t>
            </a:r>
            <a:br>
              <a:rPr sz="2800"/>
            </a:b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OM 455/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600200"/>
            <a:ext cx="18288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Comitato tecnico naz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00"/>
                </a:solidFill>
                <a:latin typeface="Times New Roman"/>
              </a:rPr>
              <a:t>M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Indirizzo, monitoraggio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ssistenza, verif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3809880"/>
            <a:ext cx="281952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Comitato provinciale 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(Provveditore -Presidente-rappresentanti istruzione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EELL, soggetti pubblici e privati che opera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per l’incontro domanda-offerta di  formazion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nalizzare bisogni e domande potenzi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progettare e coordinare iniziative, pubblicizz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criteri attestati, monitoraggio, valu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914400"/>
            <a:ext cx="88394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appresentano l’insieme dei servizi e attività EDA per il distretto scola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iferimento amministrativo e didattico = istituzione scolastica dell’obblig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Hanno raccolto e integrato le precedenti esperienze dei corsi di alfabetizzazione e dei corsi per lavorat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828800"/>
            <a:ext cx="312444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ttività di accoglienz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scolto e orient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Servizi offer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lfabetizzazione prim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corsi monografici e laborat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pprendimento lingua e linguag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48640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3300"/>
                </a:solidFill>
                <a:latin typeface="Times New Roman"/>
              </a:rPr>
              <a:t>Patto formativo individu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Libretto personale</a:t>
            </a: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 (crediti, attività svolte, competenze/attestati acquisiti, dichiarazione di frequenz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Accesso</a:t>
            </a: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 gratuito e per tutti coloro che hanno compiuto i 15 anni di et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352680"/>
            <a:ext cx="2971800" cy="129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Certifica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element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professionalizz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di riqualific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ttestato attività culturale gener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certificazione di frequen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2514600"/>
            <a:ext cx="441936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Coordinatore: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dirigente istituto sede del C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Collaboratori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individuati dal coordina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Organico di base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5 insegnanti delle medie e 3 delle elementa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(possibile incremento attuato dal Provveditor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Altro organico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operatori  dati da soggetti pubblici; convenzioni con altri istitut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assunti con contratto d’op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6600"/>
                </a:solidFill>
                <a:latin typeface="Times New Roman"/>
              </a:rPr>
              <a:t>Organi collegiali</a:t>
            </a: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: Assemblea frequentanti; Coordinamento del personale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6600"/>
                </a:solidFill>
                <a:latin typeface="Times New Roman"/>
              </a:rPr>
              <a:t>Consiglio di Istituto o Circolo della istituzione presso cui ha sede il CT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4572000"/>
            <a:ext cx="3581280" cy="990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Durata cors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licenza elementare e media corsi annuali; circa 500 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ltri corsi: modulari su 20, 40, 60, 80 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1905120"/>
            <a:ext cx="3048120" cy="1066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 provincia sono attivi 6 C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809880"/>
            <a:ext cx="3429000" cy="17528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ovincia VE 1999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fabetizzazione: 16 corsi; 314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terza media: 20 corsi; 310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rsi brevi: 157 con 2.120 frequenta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onferenza Unificata Stato-Regioni-Enti Locali</a:t>
            </a:r>
            <a:br>
              <a:rPr sz="2800"/>
            </a:br>
            <a:r>
              <a:rPr b="1" i="1" lang="it-IT" sz="1400" spc="-1" strike="noStrike">
                <a:solidFill>
                  <a:srgbClr val="000000"/>
                </a:solidFill>
                <a:latin typeface="Times New Roman"/>
              </a:rPr>
              <a:t>Provvedimento 2/3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6248520"/>
            <a:ext cx="78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Assessorato all’Istruzione della Provincia di Venezia - COSES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 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i="1" lang="it-IT" sz="1000" spc="-1" strike="noStrike">
                <a:solidFill>
                  <a:srgbClr val="4d4d4d"/>
                </a:solidFill>
                <a:latin typeface="Times New Roman"/>
              </a:rPr>
              <a:t>                         OPIVenezia - Marzo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676520"/>
            <a:ext cx="586728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o nazionale integrato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(Rappresentanti Ministeri, E.L., Regioni, parti socia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Raccordo con il comitato nazionale IFT; Indirizzi generali; Risorse attivabili e criteri di  distribuzio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Linee guida per standard: monitoraggi, valutazione, certificazione, credi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505320"/>
            <a:ext cx="63244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i locali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(Presieduti da rappresentanti dei comuni; Rappresentanti Uffici scolastici territoriali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vincia, comuni, parti sociali, Agenzie formative, Consiglio scolastico locale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Sede privilegiata della programmazione concertata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muove EDA; programma attività in base ai fabbisogni locali (seguendo le linee regionali); definis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e programma uso risorse condivise; elabora progetti di area; propone calendario EDA e istituzion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di nuovi CT e loro dislocazione; assicura il raccordo con politiche occupazionali e i servizi per l’impieg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914400"/>
            <a:ext cx="883944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iorganizzazione e potenziamento dell’educazione degli adulti  =&gt; diritto al sap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Intreccio continuo tra periodo di studio/formazione e periodo di lavoro (</a:t>
            </a:r>
            <a:r>
              <a:rPr b="1" i="1" lang="it-IT" sz="1200" spc="-1" strike="noStrike">
                <a:solidFill>
                  <a:srgbClr val="ff3300"/>
                </a:solidFill>
                <a:latin typeface="Times New Roman"/>
              </a:rPr>
              <a:t>life long learning</a:t>
            </a: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3300"/>
                </a:solidFill>
                <a:latin typeface="Times New Roman"/>
              </a:rPr>
              <a:t>Raccordo maggiore e integrazione tra CT, scuole superiori serali e tutti gli altri agenti formativi rivolti agli adu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905120"/>
            <a:ext cx="3124440" cy="1676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Obiettiv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Nuovi alfabeti, nuovi saperi,  nuovi analfabe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ecupero drop 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ccoglienza immigr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imotivazione culturale e soc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qualificazione e riqualific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percorsi modulari e flessibi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3352680"/>
            <a:ext cx="297180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Times New Roman"/>
              </a:rPr>
              <a:t>Agenti formativ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istema scolas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istema regionale della formazione profession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servizi per l’impie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reti civi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infrastrutture cultur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impr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associazio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3333cc"/>
                </a:solidFill>
                <a:latin typeface="Times New Roman"/>
              </a:rPr>
              <a:t>universit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2438280"/>
            <a:ext cx="594360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Comitato regionale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(Assessori regionali preposti, E.L., Dipartimento regionale scolastico, parti sociali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Funzioni di concertazione per: programmazione, promozione, monitoraggio e valutazione E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Individua gli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intervent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; definisce i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 criter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per la realizzazione sulla base dei fabbisogni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definisce le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risorse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; definisce i criteri e le modalità di monitoraggio e valutazione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raccordo piani EDA con  le politiche di sviluppo ed occupazional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Individua gli </a:t>
            </a:r>
            <a:r>
              <a:rPr b="1" lang="it-IT" sz="1100" spc="-1" strike="noStrike">
                <a:solidFill>
                  <a:srgbClr val="006600"/>
                </a:solidFill>
                <a:latin typeface="Times New Roman"/>
              </a:rPr>
              <a:t>ambiti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di riferimento territoriale per i Comitati locali e la dislocazione dei C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105520"/>
            <a:ext cx="373392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La Provincia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corre con la regione alla programmazione generale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linee generali di programma EDA per i territori dell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vincia sulla base delle risor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gramma servizi informativi e pubblicitari sovracomunali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llabora al monitoraggio del siste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800600"/>
            <a:ext cx="518184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6600"/>
                </a:solidFill>
                <a:uFillTx/>
                <a:latin typeface="Times New Roman"/>
              </a:rPr>
              <a:t>I Comuni e le comunità montane</a:t>
            </a:r>
            <a:r>
              <a:rPr b="1" lang="it-IT" sz="12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corrono con regione e provincia alla programmazione; provvedono 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monitoraggio dei fabbisogni; d’intesa con i Comitati locali, programmano l’us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ndiviso delle risorse e promuovono le iniziative EDA; concorrono alla definizione de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rogetti pilota in base a priorità e vocazioni del territorio; promuovono realizzazione 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coordinamento delle opportunità (funzionamento integrato); organizzano iniziativ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00"/>
                </a:solidFill>
                <a:latin typeface="Times New Roman"/>
              </a:rPr>
              <a:t>per informazione e orientamento utenti; istituiscono i Comitati local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0:50:49Z</dcterms:created>
  <dc:creator>Cristiana</dc:creator>
  <dc:description/>
  <dc:language>en-US</dc:language>
  <cp:lastModifiedBy>Cristiana</cp:lastModifiedBy>
  <cp:lastPrinted>2001-03-12T11:07:46Z</cp:lastPrinted>
  <dcterms:modified xsi:type="dcterms:W3CDTF">2001-03-12T11:15:12Z</dcterms:modified>
  <cp:revision>57</cp:revision>
  <dc:subject/>
  <dc:title>Nessun titolo diapositiva</dc:title>
</cp:coreProperties>
</file>