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D150-90D9-4161-BD6B-A6563925C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8031-8829-4964-B1FD-AF9AFFEF8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4638-2ED1-447E-B8FF-4E0EB2F12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9D02-F3CE-428E-BFDB-5997C79AD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6D3D-B4F5-430F-90D3-8E8B34462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44D9-4AF4-46DC-944E-10443ED11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2694-095F-4B25-80BE-910D73624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B5DE-CE81-4149-884F-1D6FAED54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4AD7-B4BB-4F8D-AD9D-A843EA9EF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64FA-68E7-4226-BC2D-82D8D176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1A06-489F-447E-93A4-5E8D95B1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193F-BB92-4765-A69D-A6F499D0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B0AD7-F519-4EBA-8F33-7E26F40808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1447920"/>
            <a:ext cx="1676160" cy="6094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Scuola element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(5 ann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rot="16845000">
            <a:off x="-617760" y="2445120"/>
            <a:ext cx="224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ff"/>
                </a:solidFill>
                <a:latin typeface="Times New Roman"/>
              </a:rPr>
              <a:t>Obbligo scolas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152280"/>
            <a:ext cx="3352680" cy="914400"/>
          </a:xfrm>
          <a:prstGeom prst="irregularSeal1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RE-RIFO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486400" y="152280"/>
            <a:ext cx="3352680" cy="914400"/>
          </a:xfrm>
          <a:prstGeom prst="irregularSeal1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OST-RIFO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rot="16983000">
            <a:off x="-561600" y="5055480"/>
            <a:ext cx="213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ff"/>
                </a:solidFill>
                <a:latin typeface="Times New Roman"/>
              </a:rPr>
              <a:t>Obbligo form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362320"/>
            <a:ext cx="1828800" cy="6858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Scuola me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(3 ann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Obbligo fino ai 14 an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7920" y="4419720"/>
            <a:ext cx="1371600" cy="5331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Ass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81480" y="5105520"/>
            <a:ext cx="1676520" cy="5331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99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Apprendist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77120" y="4191120"/>
            <a:ext cx="1676160" cy="6094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99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Form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professio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7080" y="5791320"/>
            <a:ext cx="3276720" cy="4572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99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Obbligo fino a 18 an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19920" y="2438280"/>
            <a:ext cx="2438280" cy="9144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Scuola secondar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(2 anni di 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Obbligo fino ai 15 an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324480" y="1371600"/>
            <a:ext cx="1676520" cy="6858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Ciclo prim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(7 ann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2666880"/>
            <a:ext cx="2286000" cy="8384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Scuola secondari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superiore (1 anno di 5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Obbligo fino ai 15 an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1295280"/>
            <a:ext cx="7619760" cy="25146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57400">
            <a:off x="2971440" y="1523880"/>
            <a:ext cx="3276720" cy="914400"/>
          </a:xfrm>
          <a:prstGeom prst="irregularSeal1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ff"/>
                </a:solidFill>
                <a:latin typeface="Times New Roman"/>
              </a:rPr>
              <a:t>Situazione transit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90720" y="3962520"/>
            <a:ext cx="7619760" cy="23619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733920" y="4191120"/>
            <a:ext cx="1904760" cy="6094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99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Scuola seconda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(trienn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15000" y="44956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6934320" y="4876920"/>
            <a:ext cx="914400" cy="6094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91120" y="4876920"/>
            <a:ext cx="914400" cy="5331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3581280"/>
            <a:ext cx="13716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6095880" y="3429000"/>
            <a:ext cx="106704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62920" y="2057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81080" y="2057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971800" y="27432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438280" y="6400800"/>
            <a:ext cx="441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Osservatorio Provinciale Istruzione Venezia (OPIV) - COSES,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3T12:24:26Z</dcterms:created>
  <dc:creator>Cristiana</dc:creator>
  <dc:description/>
  <dc:language>en-US</dc:language>
  <cp:lastModifiedBy>Cristiana</cp:lastModifiedBy>
  <cp:lastPrinted>2000-10-24T07:48:34Z</cp:lastPrinted>
  <dcterms:modified xsi:type="dcterms:W3CDTF">2000-10-24T08:14:02Z</dcterms:modified>
  <cp:revision>9</cp:revision>
  <dc:subject/>
  <dc:title>Nessun titolo diapositiva</dc:title>
</cp:coreProperties>
</file>